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DD4C-C472-45F9-8657-ED1C1B01D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C6D-38BE-4648-83FA-BEDBE2A3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082-CCF1-4888-A789-AD00183B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A18-6FDF-41C2-9585-FCFE62D5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D82-9473-4EF4-AB27-F0791B0C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8B22-D076-4EFA-92E1-7506E165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237B-705B-4F03-B161-3B05E803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2EF4-126C-4D14-A853-0CE2738F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5A23-E880-49C2-9104-8720F4E3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DC7E-AFE6-485F-A049-6A2D8785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96DA-4CED-47CB-8A99-056DFD09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E476-5BD6-46E2-87F3-7FB926D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012-6CE2-4E7C-9EC5-E20C0B59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9808-C995-467A-AE2B-9A6B0EF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7780-0C94-4A62-8F19-08430279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A22D-F664-4630-A54F-13D2B236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E513-05F4-4758-8BD6-11B44350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FCB8-46DE-4F38-9678-4222EAD7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517-B4B4-4A0A-9240-3F5690E2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BD8-1F39-431F-8CD6-9B129653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2D8-8B94-4E77-90C3-A18EFCE8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0DC-17C3-4FD2-8967-4C4453C0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CD4-23A9-4DBB-BAF1-FD2EA590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F3E-CA30-4036-8579-AC3B8C60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DF0-4850-4350-9747-79E7FFF7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8331-05F9-4ADA-BA48-45A865C9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D9A4-A764-422E-833F-123F749D9FE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verbs –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DO and HAVE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ave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ve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81796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hasn't been here all night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has to carry a lantern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has a bright flame that helps Billy see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380880"/>
          <a:ext cx="8610480" cy="557856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8006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Nouns or </a:t>
                      </a: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have a good sense of smell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haven't seen this many coon pelts since we were littl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 have to skin the coon, and dry the pelt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have to sell the pelts at Grandpa's stor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_______ 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o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e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________ 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______ 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. Hounds (do, does) hunt best during cool fall night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2. (Do, Does) you know that Billy is a brave young man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3. The barking (do, does) sound far aw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4. You (doesn’t, don’t) have to stay out here all day chopp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5. I (doesn’t, don’t)  want to give up, Grandpa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6. "No, he (doesn’t, don’t) ," Grandpa said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838080"/>
          <a:ext cx="8229600" cy="534852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8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does his chores before going hunting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doesn't like to stop hunting long enough to eat dinner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doesn't take long to catch three coons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7. There (has, have) never been a more beautiful night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8. You (has, have)  to leave the tree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9. Raccoons (has, have) many tricks to escape from their captor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0. You (hasn’t, haven’t) seen Little Ann or Old Da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1. The ax (hasn’t, haven’t)  left Billy's hands all d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2. The trouble (hasn’t, haven’t) stopped Billy from try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3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4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s have a deep broad chest and a strong slightly arched back. (2)Their feet has cat-like paws. (3)The medium length tail is slightly bushy.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Redbones are agile which help them when hunting in steep, rocky areas. (2) Redbones enjoy swimming. (3) They has a natural instinct for hunt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838080"/>
          <a:ext cx="8229600" cy="458640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don't bellow unless they have treed a coo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do our hunting at night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do the cooking over a hot fire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_________ know that hounds have a good sense of smel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know that hounds have a good sense of smel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_____ 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_______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42:55Z</dcterms:created>
  <dc:creator>Gay  Miller</dc:creator>
  <dc:description/>
  <dc:language>en-US</dc:language>
  <cp:lastModifiedBy>RomaK</cp:lastModifiedBy>
  <dcterms:modified xsi:type="dcterms:W3CDTF">2015-09-02T09:41:51Z</dcterms:modified>
  <cp:revision>31</cp:revision>
  <dc:subject/>
  <dc:title>Slide 1</dc:title>
</cp:coreProperties>
</file>